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FD30-7B6E-487B-8819-D0E33478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AD7-24F3-485B-8C8F-DC407FC2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BCE-044B-4984-9A56-6347B755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DC8-2A36-4B18-AEC4-E0C3A360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71B-C9B5-4DEA-93D5-E796FD62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7E4-3FE8-4134-90A0-F8F7812B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F23-8879-4F37-AB14-A1A21353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9AB-7758-4F2D-9A5F-4701573F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48E-06AC-42D7-AC03-37FFC6BC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E95-C92A-4D31-9471-F76A7BC2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B33-C894-4445-89D5-806E1E85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1BF-F06D-401F-B3D0-6C2BB5CF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46B3-2FB4-4798-89ED-2627479FCEC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781360"/>
            <a:ext cx="7772400" cy="1008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YAPIM KUŞAĞ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365360"/>
            <a:ext cx="6400800" cy="71892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ÜRETİY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92280"/>
            <a:ext cx="66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enim Sorunum Yok k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2920" y="2414520"/>
            <a:ext cx="70581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60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İyi düşünüldüğünde pek çok sorun ve çözüm önerileri listelenebili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rkesin kendine göre karşılaştığı değişik sorunlar vardı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nlardan bazılarını listeleyin dendiğinde nedense “ Benim sorunum yok ki! ”  diyenlerle karşılaşıyoru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run listelemeyi Rehberlik Servisiyle görüştüğünüz sorunlarla, kişisel, duygusal sorunlarla karıştırmayını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r sorun dünya çapında olmayabilir, herkesi ilgilendirmeyeb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360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6000"/>
                            </p:stCondLst>
                            <p:childTnLst>
                              <p:par>
                                <p:cTn id="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600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780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59280" y="4869000"/>
            <a:ext cx="58528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orunlar ve Çözüm Öne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884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42560" y="404280"/>
            <a:ext cx="648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klımıza Gelen Sorunlardan Bazıları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(Çalıntı Yapmayınız!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Küresel Isın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Çö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lektrik Tasarruf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lternatif Enerj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Kuraklı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ece su iç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nkli yazı yazarken kalem değişti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tık malzemelerin geri dönüşüm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aşıma-Ulaşı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ece kitap ok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Çayı karıştı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itkilerin sulan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150"/>
                            </p:stCondLst>
                            <p:childTnLst>
                              <p:par>
                                <p:cTn id="1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600"/>
                            </p:stCondLst>
                            <p:childTnLst>
                              <p:par>
                                <p:cTn id="1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3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nutmayın ki her tasarı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tlaka bir  sorunun çözümü veya hayatı kolaylaştırmak için ortaya çıkmıştı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376236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Öncelikle Projenize bir isim veriniz. Projeye isim verirken, kısa, etkili ve projenizin çalışmasını kısmen açıklayıcı (Tabure, Otomatik Lamba, Güneş Enerjili Oto vb.) bir isim olmasına özen göster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4000" y="2033640"/>
            <a:ext cx="39988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4724280"/>
            <a:ext cx="9144000" cy="1373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u derste kaydettiğiniz gelişmeleri sınıfta arkadaşlarınızla paylaşacağınızı unutmayın ve yaşadığınız süreci günlüğünüze yazı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274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.KADİR AKBA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EKNOLOJİ VE TASA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ÖĞRETMEN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76720" y="0"/>
            <a:ext cx="31672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ireysel olarak yapacağınız bu etkinlikte de buna benzer tasarım sürecini yaşayacaksını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 etkinlikte grup olarak yaptığımız etkinlikten farklı olarak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orunu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veya ihtiyacı siz belirleyeceks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656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aşamınızda değiştirmeyi, geliştirmeyi düşündüğünüz durumlar neler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İnsan yaşamında acaba neleri değiştirip  geliştirmek i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2565360"/>
            <a:ext cx="39290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63640" y="4365720"/>
            <a:ext cx="569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sarım meydana getirmenin en önemli bölümü  ne yapacağınızı yani neyi tasarlayacağınızı bulmakt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7674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. Dönem Kurgu Kuşağı “HAYALLERİMDEKİ DEĞİŞİM VE GELİŞİM” etkinliğinden yola çıkarak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rçekleştirilebilece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yapılabilecek) bir tasarım ortaya çıkarmaya çalışabilirs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458316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2360" y="2997360"/>
            <a:ext cx="5627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urgu Kuşağı Projeniz Yapılamıyors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185840"/>
            <a:ext cx="770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nun için öncelikli olarak bir sorundan  yola çıkmalısınız. Sorun denildiğinde hemen ailesel veya duygusal sorunlar akla gelmemeli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Örne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Kişisel sorun: Kullandığımız araç ve gereçler, giysilerimiz, yediğimiz yiyecekler, temizlik v.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Çevresel sorunlar: Trafik, okul, küresel ısınma, çevre kirliliği, şiddet, hırsızlık v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71640" y="3933720"/>
            <a:ext cx="77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radan yola çıkarak sizlerden yaşamınızda değiştirmeyi , geliştirmeyi veya kolaylaştırmayı istediğiniz bir sorunu düşünmeniz ve bir tasarım hazırlamanız isten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193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80000" y="1197000"/>
            <a:ext cx="506088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r öğrenci hayatındaki sorunları listeleyerek bunlara çözüm önerileri getirecek ve çözüm önerilerinden bir tasarım yapmaya ders öğretmeni ile birlikte karar verecek ve o tasarımı yapacaksını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60036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8:27:46Z</dcterms:created>
  <dc:creator>xxx</dc:creator>
  <dc:description/>
  <dc:language>en-US</dc:language>
  <cp:lastModifiedBy>KULLANICI-1</cp:lastModifiedBy>
  <dcterms:modified xsi:type="dcterms:W3CDTF">2010-06-02T08:57:36Z</dcterms:modified>
  <cp:revision>231</cp:revision>
  <dc:subject/>
  <dc:title>Slayt 1</dc:title>
</cp:coreProperties>
</file>